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5F9-B175-47B5-A81F-36FC8457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4F9E-5159-48D2-B7A3-C4B1A35D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ABC-1971-47D2-AA53-91997288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F4D-9043-45B4-AF85-F709B153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7354-E532-4054-B3EB-9592BF9D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6FB4-1E28-4033-8E7F-37D9F6E3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4777-9C60-40A2-9E9C-B8D8A319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B24C-7451-441C-A187-489FAC19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0DD-C304-4088-815A-08226F9B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F72-E3EF-43A0-A5F5-ACA02B67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79A1-DFD0-42D4-8311-7D58A078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6F5-FE4F-4768-82C8-54AE8187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E1EE-DCBA-40AE-82B5-B37A5B8E8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0920" y="403920"/>
            <a:ext cx="576108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COMPETENCIAS ESPECÍ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6200000">
            <a:off x="881640" y="2392920"/>
            <a:ext cx="3456000" cy="11178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17181" dir="2961631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2682000" y="2321640"/>
            <a:ext cx="3240000" cy="104436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-2108520" y="3267720"/>
            <a:ext cx="5410080" cy="398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  <a:ea typeface="Arial"/>
              </a:rPr>
              <a:t>COMPETENCIAS</a:t>
            </a:r>
            <a:r>
              <a:rPr b="1" lang="es-ES_tradnl" sz="20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  <a:ea typeface="Arial"/>
              </a:rPr>
              <a:t>TRANSVER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295280"/>
            <a:ext cx="7416720" cy="914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Verdana"/>
                <a:ea typeface="Arial"/>
              </a:rPr>
              <a:t>TRATAMIENTO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Verdana"/>
                <a:ea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Verdana"/>
                <a:ea typeface="Arial"/>
              </a:rPr>
              <a:t>Y  COMPETENCIA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362320"/>
            <a:ext cx="7417080" cy="792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Verdana"/>
                <a:ea typeface="Arial"/>
              </a:rPr>
              <a:t>SOCIAL Y CIUDA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5279040" y="3252960"/>
            <a:ext cx="5211720" cy="1152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37587" dir="3378595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CULTURAL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i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AR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505320"/>
            <a:ext cx="7417080" cy="792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Verdana"/>
                <a:ea typeface="Arial"/>
              </a:rPr>
              <a:t>APRENDER A AP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3549600" y="3254040"/>
            <a:ext cx="5211720" cy="11509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37587" dir="3378595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i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E INTERA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CON EL MUNDO FÍ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7416720" cy="792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Verdana"/>
                <a:ea typeface="Arial"/>
              </a:rPr>
              <a:t>AUTONOMÍA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Verdana"/>
                <a:ea typeface="Arial"/>
              </a:rPr>
              <a:t>INICIATIVA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3336120" y="4836240"/>
            <a:ext cx="1931760" cy="104436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27008" dir="3183908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626920" y="863640"/>
            <a:ext cx="180036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427280" y="863640"/>
            <a:ext cx="7308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863640"/>
            <a:ext cx="345600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863640"/>
            <a:ext cx="151272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900000" y="1944720"/>
            <a:ext cx="43200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900000" y="2879280"/>
            <a:ext cx="43200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3240000"/>
            <a:ext cx="43200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3240000"/>
            <a:ext cx="432000" cy="144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1607400" y="4762800"/>
            <a:ext cx="2004840" cy="11178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COMUN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LINGÜ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17:50Z</dcterms:created>
  <dc:creator>Paco Fdez Robles </dc:creator>
  <dc:description/>
  <dc:language>en-US</dc:language>
  <cp:lastModifiedBy>Paco Fdez Robles </cp:lastModifiedBy>
  <dcterms:modified xsi:type="dcterms:W3CDTF">2009-03-17T15:18:08Z</dcterms:modified>
  <cp:revision>1</cp:revision>
  <dc:subject/>
  <dc:title>Diapositiva 1</dc:title>
</cp:coreProperties>
</file>